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213B-3CC8-4F4B-B7DB-71EE23A6C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0AE1-6070-4410-9A61-A32FB69C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4E99-ACCA-46A0-934C-39E15980E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7BB3-6C67-43F9-BCDB-C5D2A3F60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BADD-8BCD-4DD4-ADF9-9216BF1E8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990C-BD4A-4AE1-8729-4E71C8C3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1A4B-CD56-4495-AFE4-252F5A4A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AC87-A8EA-4300-90DB-7081D28C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D554-1129-40BB-B00B-ED4CE37A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E412-B41D-4D91-806D-56A9179D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76A5-8477-48F0-8D33-6281256A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A328-2D71-4BA9-90DF-40728E9D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94C7-E188-4BB8-8CBC-F98BCBFD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154A-3D3C-4D97-90D6-B4C27CDB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27D2-7E73-4617-BB2F-E8094CC2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59C2-BED1-49A3-830F-C2E3EAD1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FD6F-6618-42B6-AD1F-DE7752F5F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AF6E-89F1-401A-A947-1595BB5C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CA27-D162-44AA-9189-A05D171D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B3BA-6CA8-4609-A8F1-76FEE4E4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9DBF-0482-47E2-AB06-2D2C43A1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D225-610D-4BFE-B301-F6B834A9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F1CB-671C-42BF-9CF5-63FE42BD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399C-69B1-4900-8850-065FD999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C5E3-569C-4C70-928D-E764B59CBB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7467-8BD3-4D09-AB84-C2A0FAF00E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Pe aripi de poe</a:t>
            </a:r>
            <a:r>
              <a:rPr b="0" lang="ro-RO" sz="4800" spc="-1" strike="noStrike">
                <a:solidFill>
                  <a:srgbClr val="330033"/>
                </a:solidFill>
                <a:latin typeface="Times New Roman"/>
              </a:rPr>
              <a:t>zi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Proiect de învăţare pentru clasa a X-a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Anul şcolar 2010-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Pe aripi de poe</a:t>
            </a:r>
            <a:r>
              <a:rPr b="0" i="1" lang="ro-RO" sz="4200" spc="-1" strike="noStrike">
                <a:solidFill>
                  <a:srgbClr val="330033"/>
                </a:solidFill>
                <a:latin typeface="Times New Roman"/>
              </a:rPr>
              <a:t>zie- </a:t>
            </a:r>
            <a:r>
              <a:rPr b="0" i="1" lang="ro-RO" sz="2400" spc="-1" strike="noStrike">
                <a:solidFill>
                  <a:srgbClr val="330033"/>
                </a:solidFill>
                <a:latin typeface="Times New Roman"/>
              </a:rPr>
              <a:t>Ce vom ştii după această unitate?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Cum putem explica nevoia oamenilor de a se exprima in versuri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e ce merită să studiem poez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um înţelegem o poezi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um vorbim despre o poezi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e este o poezie modern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are sunt elementele care compun o poezi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are este drumul de la cuvinte la sensul poeziei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Pe aripi de poe</a:t>
            </a:r>
            <a:r>
              <a:rPr b="0" i="1" lang="ro-RO" sz="4200" spc="-1" strike="noStrike">
                <a:solidFill>
                  <a:srgbClr val="330033"/>
                </a:solidFill>
                <a:latin typeface="Times New Roman"/>
              </a:rPr>
              <a:t>zie- </a:t>
            </a:r>
            <a:r>
              <a:rPr b="0" i="1" lang="ro-RO" sz="2400" spc="-1" strike="noStrike">
                <a:solidFill>
                  <a:srgbClr val="330033"/>
                </a:solidFill>
                <a:latin typeface="Times New Roman"/>
              </a:rPr>
              <a:t>Ce vom învăţa?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Mihai Eminescu, 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Luceafăru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George Bacovia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, Plouă…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Lucian Blaga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, Eu nu strivesc corola de minuni a lumi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Tudor Arghezi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, Flori de muciga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Ion Barbu,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Riga Crypto şi lapona Enige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Nichita Stănescu, 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Leoaică tânără, iubire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Pe aripi de poe</a:t>
            </a:r>
            <a:r>
              <a:rPr b="0" i="1" lang="ro-RO" sz="4200" spc="-1" strike="noStrike">
                <a:solidFill>
                  <a:srgbClr val="330033"/>
                </a:solidFill>
                <a:latin typeface="Times New Roman"/>
              </a:rPr>
              <a:t>zie- </a:t>
            </a:r>
            <a:r>
              <a:rPr b="0" i="1" lang="ro-RO" sz="2400" spc="-1" strike="noStrike">
                <a:solidFill>
                  <a:srgbClr val="330033"/>
                </a:solidFill>
                <a:latin typeface="Times New Roman"/>
              </a:rPr>
              <a:t>Ce vom realiza?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cc"/>
                </a:solidFill>
                <a:latin typeface="Arial"/>
              </a:rPr>
              <a:t>Un proiect de cercetare a unui aut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date biografice suma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date bibliografice esenţia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legerea unui poem al autorului şi citarea acestu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aplicarea fişelor de lectură pe tex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interpretarea textului conform grilei de interpreta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reflecţii personale legate de text şi de cerceta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cc"/>
                </a:solidFill>
                <a:latin typeface="Arial"/>
              </a:rPr>
              <a:t>Eseu argumentativ: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800" spc="-1" strike="noStrike">
                <a:solidFill>
                  <a:srgbClr val="0033cc"/>
                </a:solidFill>
                <a:latin typeface="Arial"/>
              </a:rPr>
              <a:t>test de evaluare final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Pe aripi de poe</a:t>
            </a:r>
            <a:r>
              <a:rPr b="0" i="1" lang="ro-RO" sz="4200" spc="-1" strike="noStrike">
                <a:solidFill>
                  <a:srgbClr val="330033"/>
                </a:solidFill>
                <a:latin typeface="Times New Roman"/>
              </a:rPr>
              <a:t>zie- </a:t>
            </a:r>
            <a:r>
              <a:rPr b="0" i="1" lang="ro-RO" sz="2400" spc="-1" strike="noStrike">
                <a:solidFill>
                  <a:srgbClr val="330033"/>
                </a:solidFill>
                <a:latin typeface="Times New Roman"/>
              </a:rPr>
              <a:t>Cum vom lucra?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3cc"/>
                </a:solidFill>
                <a:latin typeface="Arial"/>
              </a:rPr>
              <a:t>Pentru realizarea proiectului de au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avem la dispoziţie trei săptămâni de lucr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nainte de proi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- iniţial se studiază o poezie în clas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- se aplică fişe de lectură pe poezia studiat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- se realizează în clasă eseul argumentati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n timpul proiectulu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- se alege un text al autorului studia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- se aplică fişele de lectură alcătuite de către profes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- se interpretează textul conform fişelor de lectur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- se realizează o prezentare power point a proiectului de cercet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Pe aripi de poe</a:t>
            </a:r>
            <a:r>
              <a:rPr b="0" i="1" lang="ro-RO" sz="4200" spc="-1" strike="noStrike">
                <a:solidFill>
                  <a:srgbClr val="330033"/>
                </a:solidFill>
                <a:latin typeface="Times New Roman"/>
              </a:rPr>
              <a:t>zie- </a:t>
            </a:r>
            <a:r>
              <a:rPr b="0" i="1" lang="ro-RO" sz="2400" spc="-1" strike="noStrike">
                <a:solidFill>
                  <a:srgbClr val="330033"/>
                </a:solidFill>
                <a:latin typeface="Times New Roman"/>
              </a:rPr>
              <a:t>Cum vom fi evaluaţi?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cc"/>
                </a:solidFill>
                <a:latin typeface="Arial"/>
              </a:rPr>
              <a:t>Testul iniţial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cuprinde un jurnal de lectură a poeziei, în care contează cunoştinţele anterioare referitoare la poezie şi impresiile personale în interpret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- se vor primi calificative de la excelent la insufici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cc"/>
                </a:solidFill>
                <a:latin typeface="Arial"/>
              </a:rPr>
              <a:t>Proiectul de autor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e vor completa fişele de lectură care se vor prezenta profesorului la termenele stabilite;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se va realiza o prezentare power point care va fi prezentată în faţa clasei la sfârşitul studiului autorului (termenul de lucru este de 3 săptămâni). Se va primi un punct din oficiu, 5 puncte pentru conţinut şi 4 puncte pentru prezent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3cc"/>
                </a:solidFill>
                <a:latin typeface="Arial"/>
              </a:rPr>
              <a:t>Eseul argumentativ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la evaluarea finală se va realiza un eseu argumentativ pe unul dintre autorii studiaţi. Vor fi patru repere de analiză. Se vor acorda: 1 punct din oficiu, 5 puncte pentru conţinut şi 4 puncte pentru redact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Pe aripi de poe</a:t>
            </a:r>
            <a:r>
              <a:rPr b="0" i="1" lang="ro-RO" sz="4200" spc="-1" strike="noStrike">
                <a:solidFill>
                  <a:srgbClr val="330033"/>
                </a:solidFill>
                <a:latin typeface="Times New Roman"/>
              </a:rPr>
              <a:t>zi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33cc"/>
                </a:solidFill>
                <a:latin typeface="Arial"/>
              </a:rPr>
              <a:t>Mult succes, spor la treabă şi drag de poezi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09:33:34Z</dcterms:created>
  <dc:creator>Cursant18</dc:creator>
  <dc:description/>
  <dc:language>en-US</dc:language>
  <cp:lastModifiedBy>Albert Hajnalka</cp:lastModifiedBy>
  <dcterms:modified xsi:type="dcterms:W3CDTF">2010-09-06T12:02:02Z</dcterms:modified>
  <cp:revision>3</cp:revision>
  <dc:subject/>
  <dc:title>Pe aripi de poezie</dc:title>
</cp:coreProperties>
</file>